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E3C-D816-450B-A75F-B4B93668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633-5959-478B-A95B-24964CD2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13D-32C3-45C9-BF78-0795470F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EB8-EA12-465A-B33D-6E6551D6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5AEE-6746-4E0B-A1B2-3893795D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1B0-7114-47A7-9C51-161A587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221-D0D0-4112-9575-6817A56E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8DA-5D69-4B02-AC45-FF964B9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F4B-6092-4BD6-951B-A9D903F6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E30-44B1-4373-8A5B-7564615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D01-574E-46F7-9734-98CD357B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786A-F0D0-4899-9228-75A23DC4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73F-39DB-461C-99AF-D7B2E4A2F64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願你國降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Your Kingdom 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願你國降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Your Kingdom 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3:38Z</dcterms:created>
  <dc:creator> </dc:creator>
  <dc:description/>
  <dc:language>en-US</dc:language>
  <cp:lastModifiedBy> </cp:lastModifiedBy>
  <dcterms:modified xsi:type="dcterms:W3CDTF">2004-06-17T00:23:52Z</dcterms:modified>
  <cp:revision>1</cp:revision>
  <dc:subject/>
  <dc:title>願你國降臨 &lt;1/2&gt; Your Kingdom Come</dc:title>
</cp:coreProperties>
</file>